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4A10-8344-423C-9AD0-42F12C394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D2BB-F38B-47AF-8DF1-C10BE499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6633-21B8-49A7-806A-C188083C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3268-5720-45EC-88EA-584111E5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6EB9-95EF-4217-9834-3F11E363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0BF3-6B4B-44B1-874B-943CD89B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7A3D-78DF-47E9-BA1C-9F4720C0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A4EE-78CB-4299-8215-A2428983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041A-B135-4229-87C6-18F57022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57DC-6E1A-42F7-892B-98FC9F1C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6CF2-C87F-48E5-ABA5-6FE30653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B11B-42D4-4616-B897-FF978BEB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55F3-D34F-4DE9-9AFD-234B9B0836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f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ff04"/>
                </a:solidFill>
                <a:latin typeface="Palatino"/>
              </a:rPr>
              <a:t>Feature Article</a:t>
            </a:r>
            <a:br>
              <a:rPr sz="4400"/>
            </a:br>
            <a:r>
              <a:rPr b="0" lang="en-US" sz="4400" spc="-1" strike="noStrike">
                <a:solidFill>
                  <a:srgbClr val="ff8a06"/>
                </a:solidFill>
                <a:latin typeface="Palatino"/>
              </a:rPr>
              <a:t>Interests and Subjec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720" y="591516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f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144792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ff04"/>
                </a:solidFill>
                <a:latin typeface="Palatino"/>
              </a:rPr>
              <a:t>Feature article writers write about subjects they know about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f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91440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ff04"/>
                </a:solidFill>
                <a:latin typeface="Palatino"/>
              </a:rPr>
              <a:t>Look through your journal for topics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962520"/>
            <a:ext cx="883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a06"/>
                </a:solidFill>
                <a:latin typeface="Palatino"/>
              </a:rPr>
              <a:t>Change one from a notebook entry to a feature articl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f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9448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Description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Possible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Angle or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Research/Interview</a:t>
            </a:r>
            <a:br>
              <a:rPr sz="2400"/>
            </a:b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of Entry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FA Topic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Perspective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Need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38140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Things that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fear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I would take the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What kids are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       scare me.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perspective of a kid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afraid of.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drugs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who has a lot of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fears.  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Interview a child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peer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psychologist to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pressure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find out about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childhood f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f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9448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Description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Possible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Angle or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Research/Interview</a:t>
            </a:r>
            <a:br>
              <a:rPr sz="2400"/>
            </a:b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of Entry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FA Topic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Perspective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Need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381400"/>
            <a:ext cx="9601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Hillary Duff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role models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How kids find role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Number of fan 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and how I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models in rock and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clubs for  kids.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       am huge fan. 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singing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sports stars.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Interview other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kids to see who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their role models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a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f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9448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Description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Possible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Angle or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Research/Interview</a:t>
            </a:r>
            <a:br>
              <a:rPr sz="2400"/>
            </a:b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of Entry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FA Topic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Perspective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Need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86000"/>
            <a:ext cx="9601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Falling off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danger of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How often kids get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Number/type of  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my horse.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kids &amp;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sports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hurt playing sports.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childhood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sports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injuries.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pressure of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Serious injuries that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playing a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result from kids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Interview other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 sport 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playing sports.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kids to see who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has been hurt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playing sports.     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Interview doctors    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about childhood       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sports injur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f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ff04"/>
                </a:solidFill>
                <a:latin typeface="Arial"/>
              </a:rPr>
              <a:t>Read through your writer’s notebook looking for possible feature article topics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1828800"/>
            <a:ext cx="8610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a06"/>
                </a:solidFill>
                <a:latin typeface="Arial"/>
              </a:rPr>
              <a:t>At the end of writing workshop I will ask you to do a quick-write on the topic you choos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5T19:16:40Z</dcterms:created>
  <dc:creator>AAPS</dc:creator>
  <dc:description/>
  <dc:language>en-US</dc:language>
  <cp:lastModifiedBy>AAPS</cp:lastModifiedBy>
  <cp:lastPrinted>2005-10-17T16:52:04Z</cp:lastPrinted>
  <dcterms:modified xsi:type="dcterms:W3CDTF">2005-10-20T02:15:59Z</dcterms:modified>
  <cp:revision>12</cp:revision>
  <dc:subject/>
  <dc:title>Feature Article Interests and Subject</dc:title>
</cp:coreProperties>
</file>